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6607-1215-440E-8D55-25AE70D7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e know it as Yankee D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song arguing righteousness can overcome op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sing a school s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s were popular cuz they compressed complicated ideas and created feelings of unity and deter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characteristic of the Age of Reason because he was more concerned with life on earth--as an inventor he developed the Franklin stove, improved city's pavements, street lighting, sanitation, fire companies and police, ran a magazine and newspaper, founded a hospital, the first circulating library, and the U. of Penn, studied earthquakes, ocean currents, and wind,invented or improved the lightening rod, bifocal glasses, a device for lifting books off high shelves, a rocking chair that could swat flies, served as the first Postmaster General, assisted in creating the Decl of Indep and the Constitution, first American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is be inspirational to defeated soldiers.  What does he mean by the summer soldier and sunshine patri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1EC-6C3F-477A-B6D3-BBA4F4185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D9E-4090-4E4C-9969-980E63AE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D3C-A4F3-4440-B98E-EB2A755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548-35FA-46F4-955D-E70CE8AE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7C5-9332-4783-A0F8-D4C27883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70E-B9D3-4090-96E1-E2584AA6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CF2-64B0-483E-8988-D7CAFD2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56C-B105-42EC-A3BC-07189493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AB6-79FA-4DAA-AD03-071A228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824-F4D2-474A-9698-B1D992B8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70F-A842-42A5-BE97-8A6CF27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336-E2AC-49FA-9FEE-3046607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D76-5AB0-4B5B-9347-707DB19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99F-701B-4824-B004-EFB4ED739A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wo Hundred Years of American Litera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1600 to 1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ason for 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ir own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events in those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ge of Reas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could manage themselves and their societies without depending on authorities and past tra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ived on free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ch,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question and exper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rbitrary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ading Writers of Perio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themselves with state of life on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little interest in the hereaf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about science, ethics, an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chance to test ideas about freedom and progress by creating a new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American Revolu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not only with muskets but also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mphlets--Common Sense by Thomas P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s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event influencing the change of spirit in which they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r of words directed toward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 Act of 17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ay for French and Indian W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ton Tea Party 17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sted a new tax on 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ss tea into har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Parliament closed Boston Har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d food supp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ed t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raged citiz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nsend Acts 17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ston Massacre 17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r not declared but Revolution had begu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at Philadelp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k Henry in Virginia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Jefferson and the Declaration of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different revolution-cul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nspired people to express their feelings as they had never done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ities grew--population dou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flouris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ers &amp; first Native American 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merican epic p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use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merican ar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enjamin Franklin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adelphia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al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or Richard’s Alman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ty say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st popular of early almana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114640" cy="2619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5486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indows.umich.edu/cgi-bin/tour_def/people/enlightenment/frankli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d293"/>
                </a:solidFill>
                <a:latin typeface="Arial"/>
              </a:rPr>
              <a:t>The Autob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in first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that his life might serve as an example of behaviors to be both initiated and avo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how he left Boston and became a printer in Philadelp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al per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atrick Henry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 in the Virginia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respect for those who disapproved of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rhetoric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a logical 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parallel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fight! I repeat it, sir, we must fight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5867280"/>
            <a:ext cx="8381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ck Henry picture. [Online] available http://www.a1.com/history/phenrys.jpg,April 28,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erpetua"/>
              </a:rPr>
              <a:t>Puritanism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4033800" cy="3494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620- 17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gious beliefs 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est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ne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inness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rituality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asons for figh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will never be str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on our side and He will provide al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will come, like it or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1775--right place, 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of Continental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 read to defeated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n argument by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53000" y="1641600"/>
            <a:ext cx="4033800" cy="444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pipc.com/cdadesign/paine/hom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762120"/>
            <a:ext cx="8076960" cy="5638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times that try men’s sou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mer soldier and the sunshine patriot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risis shrink from the servic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country; but he that stands it 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rves the praise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s of man and woma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omas Jefferson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2209680" cy="2867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hitehouse.gov/WH/glimpse/presidents/html/tj3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Declaration of Independen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n reason that the world would understand American actions if expla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reasonable--King cruel and r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and legal rights vio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exists by consent of gov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Revolution--grand risky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s literature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rgument--clear beginning, middle, &amp;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statement of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with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tters from an American Farm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De Creveco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great circle by using knowledge and skills of Old World to create and build a bett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the definition of 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bigail Addam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’s view of Washington, White House an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ations versus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idely applauded American po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oems defended American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s Excellency General George Washingt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ghast at injustices befalle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’s army compared to storm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ifies England regretting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Voice of Her Ow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first poem appeared when she was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7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293"/>
                </a:solidFill>
                <a:latin typeface="Perpetua"/>
              </a:rPr>
              <a:t>Puritanism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Personal writings- journals, histories, serm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Primarily non-fi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Some fiction- poe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Topics were religious and historic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laudah Equiano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biased view from a slave’s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Medium"/>
              </a:rPr>
              <a:t>Classicism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 split from true Purit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Great Chain of Being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pplied to all levels of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ranklin Gothic Medium"/>
              </a:rPr>
              <a:t>Hierarchy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Franklin Gothic Medium"/>
              </a:rPr>
              <a:t>The Cruc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Popularity began to wane during Age of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Material possessions become import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Franklin Gothic Medium"/>
              </a:rPr>
              <a:t>Classicism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Focus on correctness and simpl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Emphasized order and dig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uritan writ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ome Age of Reason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Began in England in 1700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volutionary Perio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0-1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r>
              <a:rPr b="0" lang="en-US" sz="8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760-180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lightenm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ason importa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reedom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59400" y="1600200"/>
            <a:ext cx="24192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emphasis on relig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ion of new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meric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uasive writings- letters, essays, speeches, autobiograph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fiction gen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Age of Reason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ction becoming more prevalent- poetry, plays, nov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pics were science, ethics, gover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r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8:06:11Z</dcterms:created>
  <dc:creator>RPS</dc:creator>
  <dc:description/>
  <dc:language>en-US</dc:language>
  <cp:lastModifiedBy>Administator</cp:lastModifiedBy>
  <dcterms:modified xsi:type="dcterms:W3CDTF">2006-10-24T13:48:14Z</dcterms:modified>
  <cp:revision>8</cp:revision>
  <dc:subject/>
  <dc:title>Two Hundred Years of American Literature</dc:title>
</cp:coreProperties>
</file>